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A03-5D06-4E83-B8F2-7B9F6304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C4F-F1ED-44D6-BE8B-FF9DFAC9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AA7-9EFE-466B-BD50-CB5FF9CB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B65-7934-4598-814C-F0DA99D5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92B6-C611-4D51-9F49-48076579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AF09-A23B-42A5-844A-DF52F5B5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000B-6100-4FE4-BF57-38B98604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29FC-6829-476D-B0B5-289D3035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6577-8519-40CC-AC99-0E5115FE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4B5A-3B3D-4214-9B62-B8FF4EE3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8004-4EAC-4233-88AF-973E736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992-EEDF-428D-8D94-B4C910BE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EFD9-BEDD-4706-808B-BCB2B9E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5BB9-18B0-4C02-BF79-EA783F85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0B75-C9A4-402A-8A5C-937C165E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1E3E-55C1-4C3C-A0C4-2F6CD43F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A6BF-2452-4E64-99A5-411AD27E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AC3-3D7E-4BCC-BA47-20AB02C8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AE6-D2FE-4535-B509-CB054B24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856-67B0-4670-B2F1-E17E86AB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E47-F32D-4286-B0A7-74799547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2F8-B3B6-4240-9E21-436EDCAB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D70-AE9A-454C-A4AC-8506D5EA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069-D9B3-4347-A48C-B719F13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C751-9D83-44D2-862A-7640A3FAB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1487-71CB-4253-BD4D-28CF4EDEA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cription and Transl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NA code  mRNA code  tRNA code                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981080"/>
          <a:ext cx="8229240" cy="411444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A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 – a molecule used to build living material, carry out chemical reactions, and fight dis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crip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RNA from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 stays in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NA takes the message from DNA and takes it into the cytoplasm to a ribos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5991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re are no “T’’s in R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-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60199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cribe-make R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     A C G  A A T  A C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NA  U G C  U U A  U G 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:     TAC  ACG  CTA  CGC  ATG  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NA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on- group of 3 nucleotides in m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 condon-group of 3 nucleotides in t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ranslation-translate message from mR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an amino acid chain (protein) from  RNA at ribos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tRNA (Transfer R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           ACG AAT A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NA        UGC UUA U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NA          ACG AAU A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A.           Cys  Leu   C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sing the genetic code chart, translate the code below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NA ACG  AUA  GCA  A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3:44:57Z</dcterms:created>
  <dc:creator>Tera Linn</dc:creator>
  <dc:description/>
  <dc:language>en-US</dc:language>
  <cp:lastModifiedBy>Tera Linn</cp:lastModifiedBy>
  <dcterms:modified xsi:type="dcterms:W3CDTF">2009-04-01T14:21:15Z</dcterms:modified>
  <cp:revision>2</cp:revision>
  <dc:subject/>
  <dc:title>Transcription and Translation</dc:title>
</cp:coreProperties>
</file>